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D2A9B-97C0-4953-B3F0-84EA1B6EB9A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1EED1-51B3-4C91-93E2-352CEB21D5A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8B1A-C169-4B3F-AF3E-300AB361E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320C-0979-4F04-957F-EB4847032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3877-C8E1-41C4-9BEE-5C4228CAA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6EAC-9E32-4F70-9EC9-FDC5738F0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737C3-0A48-4F2D-BBB5-76D489399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258A5-6D74-45FE-9F8F-92FEDE702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7F89E-3C73-45F8-A601-66EC82126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B07EC-6C14-4D07-A819-440A9D6F2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564F3-EDDD-480B-A971-CA77D404C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68E47-167D-4019-B7C7-837D0CC85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CCB3C-CA26-4666-AB6D-F929CE0F4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8CEE-16BB-4DF8-A45F-DC6790D90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082E2-6FDE-40DF-888C-9AF6E7A8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82510-602C-4D60-AEA8-07027EB61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2C244-9489-42ED-A559-C3B507E8C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E5359-C5D6-4308-8E3D-728F987F2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A741E-201C-4C7B-B56D-06CE537B8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661C8-9ADA-45F9-8B1E-67640DCB8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9D777-5E56-464B-B838-57E8220FE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50355-21C6-4FA3-A383-96F074F3E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20BFA-72C8-47D3-ABFA-69AA3533A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AF18B-FFBA-41DF-8225-3583C87C0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747C-2A0A-4F40-ABEB-62A1FCF20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59DC2-7316-4747-AAD0-282B05479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8389B-624A-48E6-ACEC-19082C37B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D3908-DD7A-4471-94B1-EC53E695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E2845-B42F-4DC8-A907-3F3CDEA41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2168F-E3FB-428E-9926-E09B4272B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59C79-5114-49E9-A514-DBA090013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7227B-228E-45B5-BE4E-47ECB9F24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C448D-1EFB-4323-A187-7D83FBDC8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24540-B18A-4D0D-8003-49B9DE2EB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8BF28-CA4C-4114-BF6B-DB3F0B3FF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718E-512E-414F-ABA0-378303943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A178B-A73A-4CFC-82E5-2C6F957BC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00F51-86D0-49B6-8D00-1EA7C5323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6192E-66CB-4512-A633-BEC8B2F91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123F3-9624-41AB-9F29-8A06FF227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3CD6D-EB75-4837-92A4-A2675A60E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12C51-6FDF-4159-80FC-EA88ECAC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DAEF9-3D4E-49C9-8178-672E3797A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5CDC8-9AD7-43C3-9A85-1988BF75F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A2709-B1AB-4F98-B65B-2A048AAF8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B180AB-18D4-4D36-B658-644036160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C252-829F-4D0E-862B-7FCF5B856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9D14F-F0E5-4417-8629-85E74FA20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D3BAA-B66F-4DA8-A34A-445B01A73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D70D5-0940-49E0-A389-507F1B393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A6DD3-5C6B-41FD-B50D-B0C8CFC59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56658-FB6A-436E-BD3C-0D0A946B7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3A5FB-9180-493C-9C9A-5EE212EE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69D9F-BB91-44C0-AE40-CAD5B6A80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4485D-9A10-4DA6-9E54-C816354D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2CD4E-2051-450E-AB66-BD740DEA0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579D19-CDC6-4286-91C0-22ED27FD3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3C80-BEEF-43C1-9CAE-32B5A52D1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026895-662F-4D35-B01A-7696CA512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C86CE3-4AEC-4056-82C2-A3632EEB8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A6C6CE-E3D5-43D4-9B37-DEAF6E1B2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1A89D5-1D98-484D-A22F-572B10FE4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99C69A-DCD2-4091-9C7F-CA885FC33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1228AD-6802-4022-B47D-FFFC342FA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CBC4CF-CD72-4649-9741-222DE7608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22D314-86CF-4123-B060-779382635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0E3E17-64C8-45FC-9A87-19C19B824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525A3C-D22A-4F42-BA19-3B3E91714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F4FA-EFF2-46AE-B54A-83C1095D7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042427-B271-4D7B-AF8C-B7CBA33C1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B5FC62-BF78-472B-B55B-DED630F5B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BE850E-B67B-4300-8613-51E81703D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A87AFE-6C2A-4378-9DA0-AE55D735A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27705D-E21F-4078-ABAD-4450A2A94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E61017-1AD5-4C7B-A9C5-53CD77FD3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C6FB12-0F0D-4CBC-B0C1-2A5A7DD73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0AB49B-D2F6-4227-AAD6-C33A8AE47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304C06-DFDD-402E-8468-A5EBAEDAC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BB1416-F5AF-4D5C-B282-E46517FB6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3CE0-DF25-42C1-A90C-B0F745802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38F53D-BBCE-4016-BC53-DBE1F894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A56E42-A72F-44E7-B7EA-3C8D413D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A60141-B9A0-4CDD-A7A1-ACAF09545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270AEB-F7B5-47F1-801F-6A22423E2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6805B8-72D0-4087-8388-FE8ECCFB6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FB21-291B-4E64-BF5D-BA575F92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4A393-8E82-49D3-B89B-318D8E4D2FA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C38DA-DA61-4A5C-8AB6-842F12F4067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B1CAE-3C52-4321-BFD8-AB0701817C2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98ACE-9A39-470B-9E9F-484B56D5F87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E0DC4-EED7-43CD-A9FD-BCCDF219604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7B0BD-C96B-4FCA-8280-1F777B0684D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E20C7-8ECB-4A4E-82A7-3289692846E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785520"/>
            <a:ext cx="77724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500" spc="-1" strike="noStrike">
                <a:solidFill>
                  <a:srgbClr val="572314"/>
                </a:solidFill>
                <a:latin typeface="Corbel"/>
              </a:rPr>
              <a:t>ЗАСЕДАНИЕ КЛУБА </a:t>
            </a:r>
            <a:br>
              <a:rPr sz="6500"/>
            </a:br>
            <a:r>
              <a:rPr b="1" lang="ru-RU" sz="6500" spc="-1" strike="noStrike">
                <a:solidFill>
                  <a:srgbClr val="572314"/>
                </a:solidFill>
                <a:latin typeface="Corbel"/>
              </a:rPr>
              <a:t>«СВОЙСТВА ПОЛЕЗНЫХ ИСКОПАЕМЫХ»</a:t>
            </a:r>
            <a:endParaRPr b="0" lang="en-US" sz="65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ЦЕЛЬ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7200" y="1600200"/>
            <a:ext cx="822960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Corbel"/>
              </a:rPr>
              <a:t>ИЗУЧИТЬ СВОЙСТВА ПОЛЕЗНЫХ ИСКОПАЕМЫХ</a:t>
            </a:r>
            <a:endParaRPr b="0" lang="en-US" sz="4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3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ЗАДАЧИ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ПРЕДЕЛИТЬ ………. ПОЛЕЗНЫХ ИСКОПАЕМЫХ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ЕДСТАВИТЬ РЕЗУЛЬТАТЫ В ..........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УЗНАТЬ ОБ..................ПОЛЕЗНЫХ ИСКОПАЕМЫХ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ОСТАВИТЬ ……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(СВОЙСТВА, ТАБЛИЦЕ, ИСПОЛЬЗОВАНИИ, СООБЩЕНИЕ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2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20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20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20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2000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ЗАДАЧИ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ПРЕДЕЛИТЬ СВОЙСТВА ПОЛЕЗНЫХ ИСКОПАЕМЫХ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ЕДСТАВИТЬ РЕЗУЛЬТАТЫ В ТАБЛИЦЕ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УЗНАТЬ ОБ ИСПОЛЬЗОВАНИИ ПОЛЕЗНЫХ ИСКОПАЕМЫХ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ОСТАВИТЬ СООБЩЕНИЕ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09T19:16:00Z</dcterms:created>
  <dc:creator>АДМИН</dc:creator>
  <dc:description/>
  <dc:language>en-US</dc:language>
  <cp:lastModifiedBy>АДМИН</cp:lastModifiedBy>
  <dcterms:modified xsi:type="dcterms:W3CDTF">2016-02-09T19:30:14Z</dcterms:modified>
  <cp:revision>2</cp:revision>
  <dc:subject/>
  <dc:title>ЗАСЕДАНИЕ КЛУБА  «СВОЙСТВА ПОЛЕЗНЫХ ИСКОПАЕМЫХ»</dc:title>
</cp:coreProperties>
</file>